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402228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956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02228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FE4F-D6F1-4910-B0F1-98A12A6042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48D3-C341-4514-BF59-F6B5C45DE62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Robert Boyle, 1627- 1692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6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 실험을 통해 쥐의 생명을 유지하는 데 신선한 공기가 필수적임을 보여 주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쥐를 넣은 용기를 밀폐시켰더니 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간 만에 죽었고 다시 그 용기에 다른 쥐를 넣었더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분만에 죽은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보일은 호흡의 목적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람이 체표면의 물을 말리는 것처럼 혈액 중에서 배설되는 휘발성 증기를 공기와 결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association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켜 외부로 가지고 나오는 것이라고 생각하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이 휘발성 증기는 물질이 탈 때 나오는 검댕이나 연기와 마찬가지로 동물이 생명을 유지하지 못하도록 방해한다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일의 결론은 한번 호흡에 사용된 공기는 적어도 같은 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9683-4977-4E01-8206-73A868BCE1F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FFF8-AC6D-4EFB-8DCB-049843574A7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된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산화탄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호흡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효 시에 생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연성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탈 수 있는 기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플로지스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? (1776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빠진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질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초석의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산화 탄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의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명의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산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쉘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리스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E404-C179-4B15-AE25-9EB81C46A32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분석은 어떻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태워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03C9-BBD2-488C-850D-8137AB17637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처음엔 기름 성분의 흙에 명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 자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F10D-AAD3-4406-A86F-96AF8213233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E979-6298-4C14-95D8-867F2925724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플로지스톤 이론은 다양한 현상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연소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식물의 성장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소화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호흡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금속의 융해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에 관한 일관적 설명을 제공함으로써 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18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세기 화학의 튼튼한 이론적 틀을 제공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5371-EE1F-4461-95EE-A486CE6296D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38A1-EE06-4336-AEA4-7C2C45080B3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marL="45720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정치적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·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종교적으로 급진적 성향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ff"/>
                </a:solidFill>
                <a:latin typeface="맑은 고딕"/>
              </a:rPr>
              <a:t>타당성이 점차 의심되고 있었던 플로지스톤 이론의 약한 고리를 땜질하고 개량해나갔던 인물 </a:t>
            </a:r>
            <a:r>
              <a:rPr b="0" lang="ko-KR" sz="23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ko-KR" sz="2300" spc="-1" strike="noStrike">
                <a:solidFill>
                  <a:srgbClr val="0000ff"/>
                </a:solidFill>
                <a:latin typeface="맑은 고딕"/>
              </a:rPr>
              <a:t> 마지막까지 새로운 화학 이론을 받아들이지 않았음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리스틀리는 요즈음 우리가 여름이면 즐겨 찾는 청량 음료를 처음 발명한 과학자이기도 하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탄산가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그때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된 기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알려졌던 기체에 압력을 가해 물에 녹여 넣으면 천연 광천수처럼 거품이 나는 물이 된다는 것을 처음 알아낸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발명으로 그는 영국 왕립 학회의 가장 영광스런 명예라 할 수 있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플리 메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받기도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BE6A-B2D4-49E3-AC1C-07A3CC2AA78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E9AB-DEE2-48B5-B5BC-32B8142ABCD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9067-4E62-4B79-91FA-681CF4E312FF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200" y="5564160"/>
            <a:ext cx="5684760" cy="3903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 대립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의 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 중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의 조합으로 구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이 바뀌면 원소도 바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탁월한 설명력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물을 가열하면 증발하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연금술에 이론적 기반 제공</a:t>
            </a:r>
            <a:r>
              <a:rPr b="0" lang="en-US" sz="15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356D-6CBC-491D-9B14-35A0AF8C9CB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B15F-0174-431F-ABEF-4075E10CBC9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리스틀리는 이 공기 안에서 불꽃이 더 밝고 뜨겁게 타오르며 생쥐가 일반 공기에서보다 두 배 이상 오래 살 수 있음을 발견하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공기는 플로기스톤이 없으므로 가연성 물질에 포함된 플로기스톤과 쉽게 결합하여 연소 현상을 일으킨다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0CB5-5769-4097-A22B-91561768566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AB1D-27AE-41BA-ABB4-302B8DA5E6F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자칭 물리학자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물리학의 방법을 화학에 적용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프린키피아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의 확실성과 예측력 본받기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정량화 정신”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정밀 측정 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amp;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수학적 형식화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 고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체 한 방울도 빠져나가지 못하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 아주 작은 무게도 정확하게 측정해야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A8B1-3C73-404D-8A89-F9C5DD0385E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질량보존의 법칙을 전제로 하고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61E1-AF6D-43EB-9DF6-8DAB08DC14D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64B4-2CFA-4C58-AFC4-011891F2A78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4F22-53D5-4173-AED4-C9A0F23A7D4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He heated mercury and air using a bell-jar for 12 days.  Red mercury calx (HgO) formed and the volume of air decreased from 50 to 42 i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. 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3252-3EA5-46CB-BBCE-128CFA3584A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The red [HgO] was heated in a retort producing 8 i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 of dephlogisticated air [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vantGarde Bk BT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]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E3EF-897F-461A-8E0D-1F36C049476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화학 실험 도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저울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금속 녹이는 도가니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플라스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증류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실험 방법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증류법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개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여러 종류의 물질 추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새로운 물질 이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용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연금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화학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chemy/chemistry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알코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cohol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알칼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kali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증류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embic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소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soda)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등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물질 이론 개량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황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수은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염 이론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연금술의 목적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후원자의 의도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영약 창조 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amp;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금 변환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연금술사들의 목적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영혼의 정화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이후 영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실험장치와 증류법과 같은 실험기술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다양한 물질들 추출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목적하던 금은 만들지 못했지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뜻하지도 않게 근대 화학의 기반을 닦았던 것이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영국의 철학자 프랜시스 베이컨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Francis Bacon;1561-1626)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은 연금술이 화학에 남긴 유산에 대하여 이솝의 우화를 예로 들어 설명했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"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연금술은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임종시에 아들들에게 포도밭에 금을 묻어 두었다고 유언을 남긴 어느 농부와 같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그 말을 들은 아들들은 포도밭을 정신없이 파헤쳤지만 금은 나오지 않았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대신 그해 가을의 포도 수확은 매우 풍성했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와 마찬가지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금을 만들어 내려고 시도했던 많은 연금술사의 노력은 뜻하지 않은 새로운 발명과 화학의 진보를 가져왔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 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8845-586D-47D8-836F-1B5CC38B622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2565-A231-4525-A596-67DA157D2E1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새로운 공기’가 비금속물질들과 반응해 산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acid)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를 만든다는 데서 착안해서 ‘산소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oxigen)’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라 명명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9B1E-431E-4F0F-A6D3-62532CEDEA8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F01B-D13D-42D9-8CFD-920B7CDDC7A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FD2B-B941-400C-82E2-18AF8B6E45C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31F3-F30B-49E4-830B-B3E3C7A4EC1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306E-7728-42D5-94F5-3EA7174648D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1D5E-E1DE-410C-868C-0A97D6B40EC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4F76-2C2D-408E-B800-E9F4EBD6AD5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69FC-768D-412B-8FCC-4E55F88D7FE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BDF2-FB1A-4CDA-AD2A-19EB61EE686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9C50-0A4E-4FE3-BBEC-4FE9647874A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4EE4-2CDD-4969-9F25-CFF5D72D99D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3058-71C0-4644-90EF-DA3AAD18BE1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8A5D-BB09-434C-9040-34AF94B0579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3B74-E300-4EC8-B3D8-8B69B93D896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벨기에의 의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혼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뜻하는 그리스어 카오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haos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서 이름을 따 기체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gas)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047F-DB5E-4115-924C-4F492B55B45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2840-3AA8-4B6E-AF5D-59CC6CAE67B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431-1D49-46B4-B2C7-5F43D614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00F-70A2-4E34-9B65-C60D6976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8FF-789A-4C73-BE0E-B5F5474A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542-E548-4BEE-8790-D82A76E5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F4BB-7422-419F-BD32-0FB5A041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51D7-D984-4A03-9D27-A6D320C2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56AA-F437-4A55-8B36-605D4D59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BF05-FB0E-40CF-A25C-4DBCF9DD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2166-0621-4409-823B-CD48A138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6167-0218-4743-8A03-0D0CB2E7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A392-3344-4491-AFFA-61181B43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069-6348-4A08-8236-EEF7BAD9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1FC7-FFA1-4573-8F13-1239BB50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59F8-8FF5-4B8B-8BF4-E66C0665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3067-81B9-4541-B39C-365FB972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2859-4241-495A-8E86-02DE93EF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F6F8-722D-4343-AC8A-824FD613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F0847-6A71-465E-B061-BB131955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C45CB-ECDA-413E-803C-7E85C3AC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89636-7EB7-4146-8F12-4CEB9A77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65D97-F3A5-4195-96FF-000032CF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96447-BBBA-4CF2-8F67-494847F1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1D0-80B3-4F6D-AB78-D7547917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60088-31DB-40A2-A06A-FA3FE532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D8767-7EE5-41F9-A96F-43193FF0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D5EEB-C515-4272-BC5D-BBFAE696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6E4C0-B6E9-4790-9B19-2B3F75AE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88D53-48F7-45B7-A440-575ACCDA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A1BFD-0261-400C-9440-70D19C49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03554-00E6-499D-87C2-F211E3D2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41D09-6FF5-421D-965D-0E07B4F5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A4419-1BD8-467E-98DC-A79563FD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DE867-D115-44F3-976C-E126719A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458-11E6-4E01-899A-B1BBA510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B292E-7795-4EC7-988F-EF9FD6BD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59C8A-1A54-4B0B-AA36-393AE3ED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E567E-A2C6-46BE-A727-E5078B51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25763-CC23-4DD8-8C89-8AE8656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744A-8C1A-4159-B9D5-BEAB26C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394B-E2E5-4A4D-95C1-7CF9FC27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E6C2F-0F34-4A34-820C-E8A8E94F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AA9FA-3D2E-4093-BE15-551DA959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E0E9F-9187-4030-915A-591C2F7F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148-8477-4F5C-B4CE-C74A8D9D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2B1-EA48-41A2-A230-02F2780C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ABE-06FF-492E-AEAD-00123073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83B-A13D-48C2-916A-833D2A28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2CA-AE50-451E-B811-69717578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D0D3-8171-49E6-84CD-EBCAF153B9F3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61B4-9B04-4959-9A66-50640043BE97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E224-A554-4FE0-9499-17C1207870FA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82A6-950F-42D4-8804-245748879F6B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genious.org.uk/See/?target=SeeMedium&amp;ObjectID=%7B5ADE6355-B01E-F295-8CCB-ECEAFC9BBDF5%7D&amp;Mode=HotBox&amp;ArticleID=%7B8602B302-C162-4E6D-9E4F-B95F0BAE1DEC%7D&amp;viewby=images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920"/>
            <a:ext cx="845820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438086"/>
                </a:solidFill>
                <a:latin typeface="Trebuchet MS"/>
              </a:rPr>
              <a:t>라부아지에와 화학 혁명</a:t>
            </a:r>
            <a:endParaRPr b="1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static.guim.co.uk/Guardian/artanddesign/gallery/2008/oct/28/1000-artworks-to-see-before-you-die-art1/GD7816824@BAL5872-An-Experiment-2252.jpg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공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진공을 이용한 실험들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8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세기 영국의 기체화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헤일즈의 개방형 압력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수집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727)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양한 기체의 분리 및 성질 연구 전통 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4652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정된 공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조지프 블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756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연성 공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헨리 캐븐디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776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빠진 공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조지프 프리스틀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770s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불의 공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생명의 공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쉘레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리스틀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770s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53" name="Picture 5" descr="http://m1.ikiwq.com/img/xl/UhyIgR9UayDNzTXXEXN4dd.jpg"/>
          <p:cNvPicPr/>
          <p:nvPr/>
        </p:nvPicPr>
        <p:blipFill>
          <a:blip r:embed="rId1"/>
          <a:stretch/>
        </p:blipFill>
        <p:spPr>
          <a:xfrm>
            <a:off x="2843280" y="404640"/>
            <a:ext cx="340020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8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세기 독일의 분석화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광업의 발달로 여러 물질의 구성물 분석 발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슈탈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60-1734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후 플로지스톤 이론 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로지스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2160" y="486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를 가능케 해주는 원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 및 하소 시 물질에서 빠져나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58" name="Picture 2" descr="http://t2.gstatic.com/images?q=tbn:ANd9GcRMwUOg_TQV_yvjIKc3dHDT_UXVmjrJjPFC8zfsU4HsoRKBCxd4fA"/>
          <p:cNvPicPr/>
          <p:nvPr/>
        </p:nvPicPr>
        <p:blipFill>
          <a:blip r:embed="rId1"/>
          <a:stretch/>
        </p:blipFill>
        <p:spPr>
          <a:xfrm>
            <a:off x="1547640" y="609480"/>
            <a:ext cx="6164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현상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무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방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소현상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금속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방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금속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불타는 초를 유리병으로 덮으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잠시 후 유리병 내부의 플로지스톤 포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더 이상 연소 불가능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초가 꺼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화학혁명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랑스의 라부아지에에 의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영국의 기체화학 전통과 독일의 분석화학 전통 통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연소 이론이 산소 연소 이론으로 교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량적 방법과 새로운 원소 체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화학반응식 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프리스틀리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33-180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22160" y="5877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영국의 화학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목사 겸 대중 과학 강연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67" name="Picture 4" descr="Click for larger picture!"/>
          <p:cNvPicPr/>
          <p:nvPr/>
        </p:nvPicPr>
        <p:blipFill>
          <a:blip r:embed="rId1"/>
          <a:stretch/>
        </p:blipFill>
        <p:spPr>
          <a:xfrm>
            <a:off x="3059280" y="907920"/>
            <a:ext cx="309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32000" y="5013360"/>
            <a:ext cx="35622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쥐와 초는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손상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생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식물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손상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를 개선시켜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70" name="Picture 7" descr="priestleyexp"/>
          <p:cNvPicPr/>
          <p:nvPr/>
        </p:nvPicPr>
        <p:blipFill>
          <a:blip r:embed="rId1"/>
          <a:stretch/>
        </p:blipFill>
        <p:spPr>
          <a:xfrm>
            <a:off x="539640" y="692280"/>
            <a:ext cx="430056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아리스토텔레스의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4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설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성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25" name="Picture 4" descr="Scan0036"/>
          <p:cNvPicPr/>
          <p:nvPr/>
        </p:nvPicPr>
        <p:blipFill>
          <a:blip r:embed="rId1"/>
          <a:stretch/>
        </p:blipFill>
        <p:spPr>
          <a:xfrm>
            <a:off x="1908000" y="692280"/>
            <a:ext cx="5472360" cy="49701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5219640" y="3860640"/>
            <a:ext cx="35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로지스톤 없는 공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7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고온 가열하여 수은과 함께 얻은 </a:t>
            </a:r>
            <a:r>
              <a:rPr b="1" lang="ko-KR" sz="2600" spc="-1" strike="noStrike" u="sng">
                <a:solidFill>
                  <a:srgbClr val="ffc000"/>
                </a:solidFill>
                <a:uFillTx/>
                <a:latin typeface="Georgia"/>
              </a:rPr>
              <a:t>새로운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많은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함유된 공기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없는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2160" y="414972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플로지스톤 없는 공기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= 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생명의 공기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77" name="Picture 9" descr="priestapp2"/>
          <p:cNvPicPr/>
          <p:nvPr/>
        </p:nvPicPr>
        <p:blipFill>
          <a:blip r:embed="rId1"/>
          <a:stretch/>
        </p:blipFill>
        <p:spPr>
          <a:xfrm>
            <a:off x="1258920" y="476280"/>
            <a:ext cx="676908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375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라부아지에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43-179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573264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랑스의 징세청부업자 겸 권위있는 과학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80" name="Picture 5" descr="Lavoisier (17 ko)"/>
          <p:cNvPicPr/>
          <p:nvPr/>
        </p:nvPicPr>
        <p:blipFill>
          <a:blip r:embed="rId1"/>
          <a:stretch/>
        </p:blipFill>
        <p:spPr>
          <a:xfrm>
            <a:off x="2843280" y="765000"/>
            <a:ext cx="33066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무게측정법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gravimetric method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반응 전후 반응물과 생성물의 무게 측정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비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의 무게까지 측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 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가의 정밀 장치 필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83" name="Picture 6" descr="[Engraving]"/>
          <p:cNvPicPr/>
          <p:nvPr/>
        </p:nvPicPr>
        <p:blipFill>
          <a:blip r:embed="rId1"/>
          <a:stretch/>
        </p:blipFill>
        <p:spPr>
          <a:xfrm>
            <a:off x="1908000" y="620640"/>
            <a:ext cx="5400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금속 하소 전후 무게 분석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금속의 무게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&lt;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금속재의 무게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수은의 무게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&lt;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수은재의 무게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금속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공기중의 </a:t>
            </a:r>
            <a:r>
              <a:rPr b="1" lang="ko-KR" sz="2400" spc="-1" strike="noStrike">
                <a:solidFill>
                  <a:srgbClr val="ffffff"/>
                </a:solidFill>
                <a:latin typeface="Georgia"/>
              </a:rPr>
              <a:t>무언가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=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금속재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프리스틀리의 파리 방문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7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수은재 가열하여 </a:t>
            </a:r>
            <a:r>
              <a:rPr b="0" lang="en-US" sz="23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플로지스톤 없는</a:t>
            </a:r>
            <a:r>
              <a:rPr b="0" lang="en-US" sz="23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공기</a:t>
            </a:r>
            <a:r>
              <a:rPr b="0" lang="en-US" sz="23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얻는 실험 목격</a:t>
            </a:r>
            <a:endParaRPr b="0" lang="en-US" sz="23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라부아지에의 아이디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앞서의 </a:t>
            </a:r>
            <a:r>
              <a:rPr b="1" lang="ko-KR" sz="2300" spc="-1" strike="noStrike">
                <a:solidFill>
                  <a:srgbClr val="ffffff"/>
                </a:solidFill>
                <a:latin typeface="Georgia"/>
              </a:rPr>
              <a:t>무언가</a:t>
            </a: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= </a:t>
            </a: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프리스틀리의 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‘</a:t>
            </a: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플로지스톤 없는 공기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’</a:t>
            </a:r>
            <a:endParaRPr b="0" lang="en-US" sz="23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수은 하소에 대한 새로운 이론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중의 무언가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중의 무언가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어떻게 입증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반응 전후 고체 무게 측정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기체 부피 변화 측정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수은을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에 넣고 가열하면 </a:t>
            </a:r>
            <a:br>
              <a:rPr sz="3000"/>
            </a:b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오른쪽 유리병의 기체 부피 감소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8 in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rebuchet MS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92" name="Picture 5" descr="LavoisierHgCalx"/>
          <p:cNvPicPr/>
          <p:nvPr/>
        </p:nvPicPr>
        <p:blipFill>
          <a:blip r:embed="rId1"/>
          <a:stretch/>
        </p:blipFill>
        <p:spPr>
          <a:xfrm>
            <a:off x="1476360" y="981000"/>
            <a:ext cx="6408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수은재를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N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에 넣고 가열하면</a:t>
            </a:r>
            <a:br>
              <a:rPr sz="3000"/>
            </a:b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유리병의 기체 부피 증가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8 in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rebuchet MS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95" name="Picture 7" descr="LavoisierHgCalx into Hg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이슬람 연금술의 발전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2160" y="595008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 도구와 방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용어 개발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양한 물질 추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29" name="Picture 4" descr="Islamic sublimation and alembic apparatus, 10th-12th century.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250920" y="836640"/>
            <a:ext cx="2985840" cy="417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www.the-spoiler.com/ADVENTURE/Her.interactive/nancy.drew.curse.of.blackmoor.manor.1/NDcurse/planetsdoor.jpg"/>
          <p:cNvPicPr/>
          <p:nvPr/>
        </p:nvPicPr>
        <p:blipFill>
          <a:blip r:embed="rId3"/>
          <a:stretch/>
        </p:blipFill>
        <p:spPr>
          <a:xfrm>
            <a:off x="7812000" y="836640"/>
            <a:ext cx="1332000" cy="273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www.the-spoiler.com/ADVENTURE/Her.interactive/nancy.drew.curse.of.blackmoor.manor.1/NDcurse/elements.jpg"/>
          <p:cNvPicPr/>
          <p:nvPr/>
        </p:nvPicPr>
        <p:blipFill>
          <a:blip r:embed="rId4"/>
          <a:srcRect l="0" t="0" r="0" b="51548"/>
          <a:stretch/>
        </p:blipFill>
        <p:spPr>
          <a:xfrm>
            <a:off x="3348000" y="83664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질량 증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부피 감소   질량 감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부피 증가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체 질량 증가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체 질량 감소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 부피 감소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 부피 증가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98" name="Picture 6" descr="mercury into mercury oxide"/>
          <p:cNvPicPr/>
          <p:nvPr/>
        </p:nvPicPr>
        <p:blipFill>
          <a:blip r:embed="rId1"/>
          <a:stretch/>
        </p:blipFill>
        <p:spPr>
          <a:xfrm>
            <a:off x="684360" y="1484280"/>
            <a:ext cx="3816360" cy="1830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mercury oxide into mercury"/>
          <p:cNvPicPr/>
          <p:nvPr/>
        </p:nvPicPr>
        <p:blipFill>
          <a:blip r:embed="rId2"/>
          <a:stretch/>
        </p:blipFill>
        <p:spPr>
          <a:xfrm>
            <a:off x="4716360" y="1484280"/>
            <a:ext cx="38894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무언가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– ‘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산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명명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연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하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)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란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에서 무언가가 방출되는 것이 아님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이 공기 중의 산소와 결합하는 것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산소와의 결합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분해라는 틀을 이용해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연소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호흡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산화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환원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산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염기 이론 통일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거부 반응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722160" y="270792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화학반응 과정에서 성질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모양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색깔 등등이 다 바뀌는데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무게라고 바뀌지 못한다는 법이 어디 있는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92d050"/>
              </a:solidFill>
              <a:latin typeface="Georgia"/>
            </a:endParaRPr>
          </a:p>
          <a:p>
            <a:pPr lvl="1" marL="743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Georgia"/>
            </a:endParaRPr>
          </a:p>
          <a:p>
            <a:pPr lvl="1" marL="743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용기를 통과할 수 있는 다른 존재자들이 무게에 영향을 줄 수도 있지 않겠는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92d05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물은 원소가 아니라 화합물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연성 공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5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레인과 생명의 공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85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레인을 함께 태워 정확히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00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레인의 물을 얻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분해의 방법으로 동일한 원소들을 똑같은 비율로 되찾을 수 있다는 것을 보고 나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떻게 그 이론을 의심할 수 있겠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” 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라부아지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787)</a:t>
            </a:r>
            <a:endParaRPr b="0" lang="en-US" sz="2600" spc="-1" strike="noStrike">
              <a:solidFill>
                <a:srgbClr val="c991cb"/>
              </a:solidFill>
              <a:latin typeface="Georgia"/>
            </a:endParaRPr>
          </a:p>
          <a:p>
            <a:pPr lvl="2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991cb"/>
              </a:solidFill>
              <a:latin typeface="Georgia"/>
            </a:endParaRPr>
          </a:p>
          <a:p>
            <a:pPr lvl="2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수소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산소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물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= 15 : 85 : 100</a:t>
            </a:r>
            <a:endParaRPr b="0" lang="en-US" sz="2600" spc="-1" strike="noStrike">
              <a:solidFill>
                <a:srgbClr val="c991c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56000" y="1980720"/>
            <a:ext cx="4138560" cy="31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3700" spc="-1" strike="noStrike">
                <a:solidFill>
                  <a:srgbClr val="ffffff"/>
                </a:solidFill>
                <a:latin typeface="Trebuchet MS"/>
              </a:rPr>
              <a:t>화학원론</a:t>
            </a:r>
            <a:r>
              <a:rPr b="1" lang="en-US" sz="3700" spc="-1" strike="noStrike">
                <a:solidFill>
                  <a:srgbClr val="ffffff"/>
                </a:solidFill>
                <a:latin typeface="Trebuchet MS"/>
              </a:rPr>
              <a:t>》</a:t>
            </a:r>
            <a:r>
              <a:rPr b="1" lang="en-US" sz="3700" spc="-1" strike="noStrike">
                <a:solidFill>
                  <a:srgbClr val="ffffff"/>
                </a:solidFill>
                <a:latin typeface="Trebuchet MS"/>
              </a:rPr>
              <a:t>(1789)</a:t>
            </a:r>
            <a:endParaRPr b="1" lang="en-US" sz="37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7280" y="5157360"/>
            <a:ext cx="4066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 연소 이론 주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체계적인 원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화합물 명명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화학반응식 도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1" name="Picture 6" descr="traite de chimie 1"/>
          <p:cNvPicPr/>
          <p:nvPr/>
        </p:nvPicPr>
        <p:blipFill>
          <a:blip r:embed="rId1"/>
          <a:stretch/>
        </p:blipFill>
        <p:spPr>
          <a:xfrm>
            <a:off x="684360" y="620640"/>
            <a:ext cx="360036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원소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33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종에 대해 새롭게 명명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58050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빛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열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질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4" name="Picture 4" descr="Lavoisier's Table of Simple Substances"/>
          <p:cNvPicPr/>
          <p:nvPr/>
        </p:nvPicPr>
        <p:blipFill>
          <a:blip r:embed="rId1"/>
          <a:srcRect l="0" t="0" r="0" b="55622"/>
          <a:stretch/>
        </p:blipFill>
        <p:spPr>
          <a:xfrm>
            <a:off x="2195640" y="549360"/>
            <a:ext cx="4698720" cy="459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화합물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관용명 대신 구성 원소에 따라 명명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2160" y="6237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아연꽃 </a:t>
            </a:r>
            <a:r>
              <a:rPr b="0" lang="en-US" sz="2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산화아연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고정된 공기 </a:t>
            </a:r>
            <a:r>
              <a:rPr b="0" lang="ko-KR" sz="2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산화탄소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비트리올 </a:t>
            </a:r>
            <a:r>
              <a:rPr b="0" lang="ko-KR" sz="2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황산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7" name="Picture 5" descr="Lavoisier's Table of the combinations of Oxygen with the compound radicals"/>
          <p:cNvPicPr/>
          <p:nvPr/>
        </p:nvPicPr>
        <p:blipFill>
          <a:blip r:embed="rId1"/>
          <a:srcRect l="0" t="0" r="0" b="19331"/>
          <a:stretch/>
        </p:blipFill>
        <p:spPr>
          <a:xfrm>
            <a:off x="2411280" y="333360"/>
            <a:ext cx="4105440" cy="520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화학반응식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22160" y="5229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반응물과 생성물 사이의 정량적인 등식 성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20" name="Picture 7" descr="Equazione stechiometrica pubblicata da Lavoisier"/>
          <p:cNvPicPr/>
          <p:nvPr/>
        </p:nvPicPr>
        <p:blipFill>
          <a:blip r:embed="rId1"/>
          <a:stretch/>
        </p:blipFill>
        <p:spPr>
          <a:xfrm>
            <a:off x="755640" y="1341360"/>
            <a:ext cx="7728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실용적 기술 발전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야금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합금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화약제조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염색기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잔 골린스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〈“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실험의 정확성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”〉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리처드 커완과 제임스 와트는 각각 라부아지에의 물 합성 실험을 어떻게 해석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라부아지에의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1784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년 실험에 대한 프리스틀리의 반론은 무엇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실험기구가 다루기 어렵고 비싸다는 점은 어떤 문제를 야기하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니콜슨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(1788)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은 라부아지에의 논증을 어떻게 평가하고 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저자의 주장은 무엇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저자의 주장에 동의하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파라켈수스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스위스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, 1493-1541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2160" y="566064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리스토텔레스주의 거부하고 연금술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리 채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광물을 이용한 의화학 창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36" name="Picture 2" descr="http://image.pressian.com/images/2008/04/30/40080430154338%5b4%5d.jpg"/>
          <p:cNvPicPr/>
          <p:nvPr/>
        </p:nvPicPr>
        <p:blipFill>
          <a:blip r:embed="rId1"/>
          <a:stretch/>
        </p:blipFill>
        <p:spPr>
          <a:xfrm>
            <a:off x="2843280" y="692280"/>
            <a:ext cx="3313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3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리설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황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가연성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수은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유동성과 휘발성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염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고체성과 안정성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연성 원리인 황이 물질에서 방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220500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의학적 진리를 찾고자 한다면 먼저 고대 문헌부터 치워 버리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식물이나 광물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별에 대한 연구에 몰두해야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자신의 교과서는 히포크라테스와 갈레노스로부터 발췌 편집한 것이 아니라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‘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경험에 근거하여’ 새로이 썼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나는 무엇이든 증명하고자 할 때 관련 문헌을 인용하지 않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실험과 추론에 의해 결과를 얻어 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공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air)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에서 기체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gas)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로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반 헬몬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579-1644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무 기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≠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42" name="Picture 2" descr="http://2.bp.blogspot.com/_csrew_uNe9k/TJBmqnNRJrI/AAAAAAAADkU/JcEz7s7Ga0c/s400/jean+baptiste+van+helmont+-+willow2.gif"/>
          <p:cNvPicPr/>
          <p:nvPr/>
        </p:nvPicPr>
        <p:blipFill>
          <a:blip r:embed="rId1"/>
          <a:stretch/>
        </p:blipFill>
        <p:spPr>
          <a:xfrm>
            <a:off x="1211400" y="4221000"/>
            <a:ext cx="4297320" cy="1944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c.ask.nate.com/imgs/qrsi.php/8380767/10925005/0/1/A/01.jpg"/>
          <p:cNvPicPr/>
          <p:nvPr/>
        </p:nvPicPr>
        <p:blipFill>
          <a:blip r:embed="rId2"/>
          <a:stretch/>
        </p:blipFill>
        <p:spPr>
          <a:xfrm>
            <a:off x="5651640" y="4149720"/>
            <a:ext cx="27842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=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분해불가능한 근본물질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로버트 보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회의적 화학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61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의 종류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직 모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을 해봐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5:18:02Z</dcterms:created>
  <dc:creator>zolaist</dc:creator>
  <dc:description/>
  <dc:language>en-US</dc:language>
  <cp:lastModifiedBy>zolaist</cp:lastModifiedBy>
  <dcterms:modified xsi:type="dcterms:W3CDTF">2011-05-06T05:54:34Z</dcterms:modified>
  <cp:revision>58</cp:revision>
  <dc:subject/>
  <dc:title>라부아지에와 화학 혁명</dc:title>
</cp:coreProperties>
</file>